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6CE6-956D-48F7-BF02-316EC993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1BC4-2E39-4AF9-988D-FE4BFFF03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8123-4E22-45BC-8E17-6C666180E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DAB3-0D69-4F08-B0A7-68BC39BBD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85DC-CFE1-4E9C-865F-5A3D2A6BE4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0E7A-F0FD-4D28-81BF-BF82B776A9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7C36-F66A-40B6-8E3B-409870C0F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0C56-BB35-4FC8-916A-E057809EA6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F1CF-A132-419B-810B-32E88FA0C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BC4C-9569-43EA-A447-25FD6BD130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B0F5-060D-4615-ABC0-BB6D42771F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F201-8F63-47B2-BF28-623CB9302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29CE-F845-4A1B-8921-70FE194C4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EC42-09F1-4233-AA07-241D80B5B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1FD6-5192-4922-8071-352C8E7104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23C0-F86B-4283-A6A0-BCEDE9CE4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427A-8BEF-4B2E-9009-7ECD51E6A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6B72-C604-47B0-9939-7351AC628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C9E7-D06D-44CD-BD71-1F213AE26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2133-7779-4A78-A046-01AEFAB52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C8B-E686-40D5-BE67-446AE6928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A904-658E-4332-AE4A-DCA0E9606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4370-A0C1-40F7-9489-DA2EF3859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8A47-E450-4495-8DCD-1C94F4BBA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42E8-0492-4DDD-8982-545923AD010D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04F3-1244-497F-8125-10D9DEDBFC9B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ols.google.com/gapminder" TargetMode="External"/><Relationship Id="rId3" Type="http://schemas.openxmlformats.org/officeDocument/2006/relationships/hyperlink" Target="http://tools.google.com/gapminder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at is develop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4221000"/>
            <a:ext cx="7559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implest definition is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‘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process of countries becoming richer’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0FDD-7CA1-4FA4-8C5A-61E638F22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On the other hand, LEDC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dustry tends to be primary – do                                                 you remember what that is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r it is industry that needs a lot of                                                people and is much less mechanised –                                     why is that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Farming is often subsistence –                                                               what does that mea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fewer service industries because people do not have much money to spend on leisu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 all children go to school – many people have to pay towards the education. Girls in particular tend not have the chance of educa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 everyone has enough to ea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1.1 million ( 1/6 of the world) are without access to clean wat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althcare where available is often basic as there are too few doctors and hospital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084720" y="765000"/>
            <a:ext cx="2735280" cy="22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1E3E-D767-4BBD-9803-E81FD940F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But where do NICs fit i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3213000"/>
            <a:ext cx="4244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r the others, we talked about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dustri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rm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rvice industri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3141720"/>
            <a:ext cx="4244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duc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o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lthca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724360" y="765000"/>
            <a:ext cx="2735280" cy="2256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395280" y="765000"/>
            <a:ext cx="2752560" cy="2276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3059280" y="765000"/>
            <a:ext cx="2734920" cy="2273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7E4A-5373-40A8-8329-325A692AD0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cts about World developmen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/5 of the world are MEDCs but they own 4/5 of the wealt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 richest 3 people own more than the poorest 60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00 million people are homeles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900 million have no educ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880 million do not have enough to ea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Only 1/3 of the world can rea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1% go to university and 1% have a compu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 cost of providing basic healthcare and food for everyone who does not have it would be less that Europe and USA spend on pet food each yea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589000"/>
            <a:ext cx="2678040" cy="1015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at is the population of the whole world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ECF7-D46E-4F87-949D-A90025423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Measuring developmen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So how do you measure economic development, standard of living and quality of life?</a:t>
            </a:r>
            <a:endParaRPr b="1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39F8-8E8F-4C3B-8BF3-0DF247873F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One measure of the wealth of a country i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…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GDP which is usually given in dollars ($)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DP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stands for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oss (All the money earned)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mestic (Just the one country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oduct (added together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ountries will have bigger incomes than smaller countries who were just as wealthy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population size need to come into it too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you divide the income by the population, then this gives a figure of dollars per hea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DP per capita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DC47-ED80-42F2-8ABA-52A0894D7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92360" y="4437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are 2008 figu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3813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384720" cy="221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AB4D-69AA-45FF-8E3D-77B62DA55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a look here – fairly obvious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48000" cy="280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389480" cy="32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FF85-C82B-4E63-A4F6-D1D4E297F0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a look here – fairly obvious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48000" cy="2801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4005360"/>
            <a:ext cx="2808360" cy="11912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utside Kabul in Afghanistan $1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389480" cy="3284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148360" y="1434960"/>
            <a:ext cx="3384360" cy="1557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rkersburg in West Virgini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mall town Ameri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45,8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45A8-3557-4016-9141-1B53A69D7C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But take a look at thes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248360" cy="3189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176720" cy="31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E6F-9504-4163-96CC-2C9C58245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But take a look at thes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248360" cy="3189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4360" y="4292640"/>
            <a:ext cx="280800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kyo,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33,5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176720" cy="3136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92720" y="1989000"/>
            <a:ext cx="309564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angkok Thail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8,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FDBA-FDFC-4801-8A1D-87F7D6EFCB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‘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process by which countries become richer’.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countries are trying to increase their wealth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people earn more, they can afford to buy more ‘things’ and so we say their ‘standard of living’ improve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t all countries are developing at the same rate, and the gap between the rich and poor is growing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D989-1F63-4472-B207-2D1182F9B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nd thes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01800" y="717480"/>
            <a:ext cx="3265560" cy="4367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395960" cy="3281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5640" y="5516640"/>
            <a:ext cx="280836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Wezhou, Chin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$5,4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773360"/>
            <a:ext cx="3816360" cy="1015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effield Engl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$35,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5CD8-B3BF-4411-9A26-A6B5C48D7E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re are lots of other measur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se are called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evelopment indicator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, for instance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come – this is only helpful if you know how much things cos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overty – the % living on $1 a day or less – this is about 60p in the UK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5A37-53CB-4C4E-BC00-60B02A87DF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shows how much money people earned in $ a day in 2000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2720" y="1341360"/>
            <a:ext cx="7056360" cy="520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2995560" cy="25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F531-CBA7-4874-9B48-CB18A3187E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me more development indicator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fe expectancy – how long a person can expect to live in a particular countr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fant mortality – the number of babies who die before 1 year per 1000 peop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eople per doctor –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lorific intake – the amount of food in calories per day, The World Health Organisation (WHO) says men need about 2500 and women need 2000 calories a da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5E1C-42FC-44DA-9FED-FE99597F0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opulation indicator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8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 densit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opulation growt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ertility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rth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eath rat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40360" y="1052280"/>
            <a:ext cx="475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ll these can tell you something about development – birth rate and death rate are an indication of the quality of health ca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 growing population are often cited as a cause for underdevelopment – but it is really more of a symptom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0DAF-7953-4C02-BD2B-9E8B3AB7FC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n conclus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GDP gives a general idea of the level of developmen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other indicators tell you more about the quality of life of the peopl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ever, without money, indicators about health, education and food and water supply cannot improv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how can we can we a get a measure of how good or how bad things are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3C54-D974-4FA3-87E0-C06C32BCF3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are the problems with GDP per capita as a measure of development?</a:t>
            </a:r>
            <a:endParaRPr b="1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0BF5-044B-459F-AC9E-C7BD0B2318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you se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arts of a country will reflect its GDP but others will no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countries with a low GDP where there will be large modern buildings and MacDonald'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re will be parts of countries with a high GDP that are underdeveloped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F037-ABD2-43C4-BD7E-3F651730D8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development is not just about how much money a country mak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was generally thought that as a country got richer, the standard of living of the people would increase – but as we can see, parts of every country are very modern, but not all of them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need to think about ‘quality of life’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is only when we look at this, that we can begin to see how developed a country i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cause then we know how well the individuals who live there are fairing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3545-9612-4096-81F8-8F353B74F7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o to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tools.google.com/gapminder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(see a cheat sheet on the next page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are graphs that you can plot against each other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bottom one Income per person (another name for GNP per capita) and now make the side axes = life expectanc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lso change the colour scheme: Top right click on Geographic regions </a:t>
            </a:r>
            <a:r>
              <a:rPr b="0" lang="en-GB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 categorization </a:t>
            </a:r>
            <a:r>
              <a:rPr b="0" lang="en-GB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 income group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You will see these groups (High – OECD, high – not OEDC, Upper Middle, Lower Middle and low income)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5796000" y="907920"/>
            <a:ext cx="3168720" cy="32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3DC5-D3B6-4EAF-B780-5EAED5AB56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development involves more than just the wealth of a countr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need to take into account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at standard of living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quality of lif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f the people who live ther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5FC2-D0B8-4BD9-944E-EC7A9B88D1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for anomalies – Odd ones out – any dark blue ones with a greater life expectancy that you thought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[Hold your mouse over the dark blue box in the key – all the dark blue ones will flash – so it is easier to see the OOO (out ones out)]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over over that country to see which it is, what its Income per person is and its life expectancy and note it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might that be? What must these countries being doing that gives them a higher than expected life expectanc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other colours? Hold your mouse over them in the key and what do you noti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EF35-2F51-4349-92EB-06C7A3F16C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question 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come per person v Life expectancy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general pattern? Answer: As the Income per person increases, the life expectancy goes (up or down). This is because as the amount of money a country has goes up, then ….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nomalies (OOO): (do at least 2 anomalies for each question – one higher and one lower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untry:  Income per person =  Life expectancy = This is (higher or lower) than expected. This could be because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Question 2:Income person v infant mortality rate per 1000 birth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329C-4082-4E87-B08F-D73F5271FB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tandard of lif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is the material well-being of a person: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value of their possession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type of home they live in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ther they own such things a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TV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washing machine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ar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telephone o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omput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4A7B-50A9-41EC-9752-3523191E3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quality of lif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is the general well-being of a person. It include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standard of life but also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ccess to education and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lth care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vailability of  the utiliti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.e. electricity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rubbish collection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also political and religious freedom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cial opportunitie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nvironmental qualit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E6D0-3B4B-48E0-8752-F181D8BCBA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691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Development is the improvements in standard of living and quality of life that follow on from a country becoming richer</a:t>
            </a: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76360" y="620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Comic Sans MS"/>
              </a:rPr>
              <a:t>In conclusion</a:t>
            </a:r>
            <a:endParaRPr b="1" lang="en-US" sz="4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4481-9484-4FF6-AD5C-C20AA15E6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In 1980 the term North-South divide was coined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3716280"/>
            <a:ext cx="856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ut as we know it is not as simple as tha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re are many countries, like NICs, who neither very rich nor very poo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340000" y="1149480"/>
            <a:ext cx="4392720" cy="22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908B-9D71-4B7F-A3B7-BFABC4432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eographers love classifying things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in order to classify the level of development they have concentrated on the level of economic (money) developmen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there are 3 basic groups that you have come across before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D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NI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DC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o you remember what these stand fo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86E2-2256-461A-AF97-036A885B0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What are MEDC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tend to have well developed                                  industries, often high-tech – why is                                             that? What are they saving o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Farming is for profit and uses                                         machines and chemical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MEDCs have many service industries                                        because people have spare money for luxuri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hildren have free education and almost everyone can read and writ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have plenty to eat and in fact many are over weigh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lean water comes directly into their hom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ealthcare is easily available and is of high qualit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9" name="uk" descr=""/>
          <p:cNvPicPr/>
          <p:nvPr/>
        </p:nvPicPr>
        <p:blipFill>
          <a:blip r:embed="rId8"/>
          <a:stretch/>
        </p:blipFill>
        <p:spPr>
          <a:xfrm>
            <a:off x="6084720" y="765000"/>
            <a:ext cx="280836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25A9-69DE-412F-974B-069CC05362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1:19:25Z</dcterms:created>
  <dc:creator>Lindy</dc:creator>
  <dc:description/>
  <dc:language>en-US</dc:language>
  <cp:lastModifiedBy>Lindy</cp:lastModifiedBy>
  <dcterms:modified xsi:type="dcterms:W3CDTF">2008-11-02T14:16:19Z</dcterms:modified>
  <cp:revision>11</cp:revision>
  <dc:subject/>
  <dc:title>What is developmen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